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4582-3125-4AB3-9084-A6F263BA9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F6BC-AED9-49CF-ACCA-7AE2ED258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12AA-C65F-4104-8E7C-E9A5DF782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1483-9063-4C5B-BA94-E485F1CF2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F903-F159-45F8-B828-B27810EDB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2268-9C10-4EE4-B3E8-87FA524E2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CCC1-1983-449C-9EE8-D2AA4CD55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083-BA40-401E-BAD5-365581AE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80BA-06BD-443A-A9C0-BC77E297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EDF-142C-4390-A304-79E11AEB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789-6E09-4924-B97B-8CB0564B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DEB1-B940-42D4-8C15-498567B2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BDBD-E6D4-4AAA-BB62-931402DA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7BBE-CED1-4E17-B58E-29D563EB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A694-780C-4C95-B34F-D1A0A819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4A13-7AAD-4E58-8CD9-279BF642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A215-04E2-4D93-9892-726D5B16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BBA2-8B80-429A-BE77-6C245641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394-6B18-4988-B00C-B2D4A0F2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5414-7F62-4490-86F8-E01A3ED7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16B3-F593-44DD-BE11-6520930F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9B1F-A84F-4D00-AABA-FE9D4F88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E78B-6AAA-4F38-A6CE-2078152E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7011-1D50-43BB-A9E4-722E7CD2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56B64-308B-4161-A2D0-767AFB56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3321D-C1AB-4CB0-A670-C0C4EA46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72651-2961-4DCF-AB40-6FA7BA46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F81FF-3CE0-4E1E-AACD-7B614418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86EFA-9261-4726-A941-9C7A15C4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67C-BFAD-48C3-91ED-FD9D51CA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7659E-E608-4ACF-A75B-AEE4B2D3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D4690-178B-4CD5-B1E2-8F420E17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60178-EE99-4868-B3DF-B5C7BAD6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91A61-5480-4904-A182-51B1EEC7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33CFF-C03E-4D78-A056-B6E378F3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D25C0-1C42-4A29-AA9A-DA97B2A8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741B4-451E-4D2E-93CB-A1AA32BF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F7755-3C8E-47DF-9BF3-E3F6ECD7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286C1-6789-48DA-AE93-276CBCA9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294FF-DFA7-45DA-BCAF-47E849FA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0772-DFA7-4BA0-A98A-3DAFF4A6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ECEDC-8240-4DA4-9BB1-41B1D422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14358-CC65-4188-AB55-E5132DAE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355AE-2EEE-421E-B9D1-7AD0499B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CD44B-3BAA-49F8-96C7-C6F2D0F1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C235C-4DD7-4BC3-984B-21A42E3F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6162A-8149-4A2F-867A-B48EEE59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F1D84-7F7D-4A22-85BE-02B5FCD2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40BB3-D202-473C-9F91-7D3A0FE9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E1DD0-9921-44A0-9D11-2A5DE647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EC5B7-D0B8-41C3-8924-7C2115D2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981-39E0-4AA9-910E-DA0697EA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F618E-D0D9-41CA-9AB3-D018C389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4C31D-59B3-490F-9B45-AA7A411B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5F037-0D5F-4F8F-B1C3-0A273673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8B697-CCCA-4D08-9719-AC9BC3D3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C5A72-2274-494D-B22D-981FE950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397D5-748A-4E17-9B0F-B6BA049A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D5D0E-9FF9-4CEA-9734-00A57E38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15D1B-9749-4565-8A1D-930BFF27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AAAF0-D673-43DB-BF2B-220B7FC4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FAF01-868E-4981-A157-50E67B72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6BCA-2931-4603-B097-0E60E443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AD101-3539-489E-A8A2-39F45C1E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4BD49-F7CF-4457-9340-D703F397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BD192-7B5F-4F63-BF91-F3CA01D1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279A3-73DF-4F86-A46A-810CDE07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80A32-E668-49E7-ADD1-AE748164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DBDB9-1A96-4ACD-B2F6-9975E455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311A6-7B46-454A-BCFD-E916732F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860CF-8D64-4078-B298-ED33D5AF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0FA44-8C6D-42B6-849F-EEB5869C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507BE-8937-4ABB-B9EA-1BD21B27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15B-0830-4FCE-ADFE-E5D60E2D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CE16A-AF6B-4EAD-99E9-B28D5BAA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451BE-DDE0-4E73-BD55-16649644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2D478-9119-4E22-BDA0-8E4854F7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81E0-C3A1-4C49-AF61-12CB9542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624-4794-4B8E-99A1-0BA54B80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6340-303D-4ABD-A6CE-CDB17A5E30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56FF-7407-4BEB-B901-FD6B582D35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31D7-9AFE-404A-9804-DD97C98C238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A0BB-F6E1-497C-A3FE-3B046AC4C8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4822-E943-4FD7-B7CA-9381C3E8AE3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5FF8-2BF6-4B5E-B7F7-88F5E07CC1D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utlertech.org/btol/" TargetMode="External"/><Relationship Id="rId2" Type="http://schemas.openxmlformats.org/officeDocument/2006/relationships/hyperlink" Target="http://www.butlertech.org/btol/" TargetMode="External"/><Relationship Id="rId3" Type="http://schemas.openxmlformats.org/officeDocument/2006/relationships/hyperlink" Target="http://www.butlertech.org/bto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" Target=""/><Relationship Id="rId5" Type="http://schemas.openxmlformats.org/officeDocument/2006/relationships/image" Target="../media/image19.wmf"/><Relationship Id="rId6" Type="http://schemas.openxmlformats.org/officeDocument/2006/relationships/slide" Target="slide1.xml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66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of University Affiliated Online H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anford’s gifted-student progra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13,000 per year.  Courses range from $495 to $740 each w/additional $50 for materials &amp; shipping per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schls that charge &lt; $150 per cre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University of Oklahoma High School costs $1,725 per year ($180 per course) in addition to several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 Program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ch Program will pay for part tim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spend ½ day in tech cen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amp; tech center pays for supplemental academic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Eric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 Tr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klahomans’ Opin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lorid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ost wide-ranging virtual mandate in the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tate law requires districts to create full-time virtual schools K-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chigan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Recent requirement that ALL graduates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ave an online learning experience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Other state-wide = Illinois &amp; Ida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nnesot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ull-time virtual K-12, launched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lementary = 20% online + plastic tubs of materials @ home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ashington State &amp; Massachusetts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xploring idea of increas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-led initiatives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to state-wid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palmbeachpost.com/search/content/local_news/epaper/2008/09/28/a1a_virtual_school_092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http://www.sbe.wa.gov/documents/OnlineLearningMemo05140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7% White &amp;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&amp; Educational Options, &amp;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7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7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7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7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7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7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ns Resp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2209680" y="-685800"/>
          <a:ext cx="609624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-685800"/>
                    <a:ext cx="609624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0" y="2590920"/>
          <a:ext cx="701028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701028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graphicFrame>
        <p:nvGraphicFramePr>
          <p:cNvPr id="286" name=""/>
          <p:cNvGraphicFramePr/>
          <p:nvPr/>
        </p:nvGraphicFramePr>
        <p:xfrm>
          <a:off x="3505320" y="4451400"/>
          <a:ext cx="5638680" cy="240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4451400"/>
                    <a:ext cx="56386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676520" y="3048120"/>
          <a:ext cx="7467480" cy="27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746748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52280" y="-533520"/>
          <a:ext cx="7720200" cy="329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-533520"/>
                    <a:ext cx="772020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-13680" y="6143760"/>
            <a:ext cx="59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*Published in April 2007 by the National Center for Education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533520" y="4114800"/>
          <a:ext cx="8229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14800"/>
                    <a:ext cx="8229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14480" y="-142920"/>
          <a:ext cx="7151760" cy="34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-142920"/>
                    <a:ext cx="7151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0492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321600" y="2590920"/>
            <a:ext cx="2822400" cy="42670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of respondents are open to Virtual Schools even though 59% stated they had “not that familiar with” or had “never heard of” virtual, cyber, or online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1% are not satisfied with the current public school system.  The figure raises to 51% when excluding the “undecided”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 is lagging in online education possib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900 OK Students </a:t>
            </a:r>
            <a:r>
              <a:rPr b="0" i="1" lang="en-US" sz="2800" spc="-1" strike="noStrike">
                <a:solidFill>
                  <a:srgbClr val="ffff66"/>
                </a:solidFill>
                <a:latin typeface="Baskerville Old Face"/>
              </a:rPr>
              <a:t>VS.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50,000 Florida Virtual Academy Students completing 90,000 courses in 2007/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a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0" t="22642" r="6249" b="511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ler Tech Online - Hamilton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a variety of options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ull-time, part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ffers in conjunction with Academi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utlertech.org/bto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 Virtual High Schools – Oklahom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wned by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urriculum delivered in a variety of ways online (lecture, videos, Power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have a quick feeling of “success” because of frequen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i-County Tech Center – Bartlesville,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online learning through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tilized when students can’t fit an academic course in their schedule when enrolled at Tri-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lab available to suppor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ee to student if they complete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And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cess Ra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, Inc., a subsidiary of DeVry Inc. (NYSE: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e office in OKC (Bricktow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  <a:ea typeface="Osaka"/>
              </a:rPr>
              <a:t>(Revenue)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Osaka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4,500 per-stud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Osaka"/>
              </a:rPr>
              <a:t>(averag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ationally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courses 88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in courses 74% (6,5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active 62% (5,5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lahoma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tudents 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courses 2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that are active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active courses on track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completed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firstslide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A 2.00 (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IEP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EOI (End of Instruction)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ine high school diploma will be the same as traditiona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take year book picture, attend prom, walk at graduation 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firstslide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ts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a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nline instructor’s role requires a paradigm shift in perception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instructional time &amp; space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,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Baskerville Old Face"/>
              </a:rPr>
              <a:t>virtual management technique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, 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ways of engaging students through virtual communicatio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Based on results of a systematic literature review 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gram evalua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stitutional support &amp;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3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4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5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6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rr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Education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21(3), p. 145-1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2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3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4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505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6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507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andout retrie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t has more to do with whether this is a good way for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)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ngela Specketer, Principal of Minnesota Virtual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full-time virtual started in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ture 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see as the 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1698480"/>
            <a:ext cx="89917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Meeting individual learner’s needs &amp;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verse learning styles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EPs – truly customer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participation, engagement,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use of tools, technologies, method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klahoma educ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onclu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line Learning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It is Here to St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42670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t Over Yourself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rcRect l="15835" t="0" r="8163" b="14006"/>
          <a:stretch/>
        </p:blipFill>
        <p:spPr>
          <a:xfrm>
            <a:off x="1600200" y="3200400"/>
            <a:ext cx="2347920" cy="327672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06" name=""/>
          <p:cNvSpPr/>
          <p:nvPr/>
        </p:nvSpPr>
        <p:spPr>
          <a:xfrm>
            <a:off x="304920" y="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1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1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udience Respon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38280" y="3044520"/>
            <a:ext cx="45720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ents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625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25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Online High Sch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ublic or private schools that allow students to work with their curriculum &amp; teachers using the Internet, rather than in a traditional classroom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ption for students wh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tay home for health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sire to work at their own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nd themselves unable to concentrate on their work in the traditio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chedule their learning around a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ypes of Online High Sch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- Public/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-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- University Affil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ublic Online HS in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rrently OK has 900 student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#s continue to increase based on how many students the 6 partnering schls will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ree for full time students (6 courses/seme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rt Time Students pay $400 per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nerally provide curriculum &amp; other materials at no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me offer computer leases &amp; pay for student internet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rivate Online 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 Private online in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possible to find non-profit 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me are as much as $16,000 for a 4-year diploma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low-cost altern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ke Penn Foster complete diplo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rox. $1,2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Betsy</cp:lastModifiedBy>
  <dcterms:modified xsi:type="dcterms:W3CDTF">2008-10-22T18:05:25Z</dcterms:modified>
  <cp:revision>107</cp:revision>
  <dc:subject/>
  <dc:title>Online High Schools &amp; the Future of High School Diplomas</dc:title>
</cp:coreProperties>
</file>